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A32-F660-4BF4-929E-790A42EB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824-35C4-4AC9-9D03-21D393D5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0F6-DFD3-412D-91F1-B15430A9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FD9-9522-4E45-BB19-9CD6ABAE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1275-0186-44C1-AA7E-BB07B3B2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927E-C1D2-4856-B6F7-B3F6907D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629A-14F8-406A-AAA7-61A97A82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8F0D-A7A2-4267-BCBA-DBED5B4A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6C8A-38E6-4392-9C95-16779D38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5CFA-5010-459D-BD98-7A8C49C2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0991-E784-48C5-89CD-527A81D8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CA80-6156-4F39-A4B0-C5B9CC9F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E6C2-D2A4-4377-8C1D-5DA609F6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7BF6-AF83-48AA-B2D5-E3E6B377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66FB-FF16-4004-B214-2A8EF269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C5F4-5D58-4A0B-B4B7-B6F5CE31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0AAC-4795-4D78-8A9E-817E68CD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E47CE-424F-433C-8411-9AA5D484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3C42A-09CE-4090-91E8-D210F15B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555B-CD94-45FF-8A96-E2EBD38F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AA934-3380-4BA8-901A-25F0768D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B0048-D5DF-4788-BDE6-1930A535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960-77AC-46D2-8609-25ED7B66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4CAC1-64B0-41BA-B522-64D13ECC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82359-274A-47A9-9574-84FAC93E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35EAE-703E-4131-80ED-7555FB58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EA757-3EDA-4C50-BA87-4AE6D1AD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D76B6-9092-4240-AD8D-DAE96E7D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FE9F9-682A-46A9-A665-EEF9CAA6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B3E4B-17B9-4551-B3EB-3A71A668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DB16F-AA8E-47D0-80F6-DE7877EB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284AB-F17A-477C-93FD-EFDED606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0E2FA-DCAE-4EFD-A97E-A4854669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E09-4810-4844-BF08-49A30CAC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D9C93-0B62-4C5C-9406-C4F82CBA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85364-CDA1-4574-9C9A-AB249EB1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17524-34BE-42E4-A889-808DF573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C548E-EC2B-4293-AD39-3B95B556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FAFF5-C361-4365-B933-441A32E9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C0929-3EB3-426D-8183-E23CFA08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FCC9B-02A9-474B-AA32-5C6EF18B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F1E89-AF05-461C-84E5-A359294A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F3F6A-45F9-4E1C-ABE6-9FD27A33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7E4-C92E-438B-A988-11009B53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7B4C-19BD-4724-9B0E-F7AC47B0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E45-F6D8-442F-BE84-E2D2EB86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926-1A93-474E-BD46-F437BD06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263-F62E-4758-8AD1-C528E143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72B9-487C-438E-9866-1FEC05966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7569-34AE-4885-81E2-1DBB982B9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1714-612E-4FA8-A644-C7B00B331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B9E2-F40C-49C8-B28D-386DBF5C0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7160" y="2265120"/>
            <a:ext cx="6583320" cy="161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абораторијски тестови за одређивање функционалне способности ендокриног систем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07560" y="235080"/>
            <a:ext cx="515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акулте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дицинских наука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у Крагујевцу</a:t>
            </a:r>
            <a:br>
              <a:rPr sz="2000"/>
            </a:b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СНОВНЕ СТРУКОВНЕ СТУДИЈЕ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тедра за Физиологиј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89920" y="0"/>
            <a:ext cx="1054080" cy="1405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6"/>
          <p:cNvSpPr/>
          <p:nvPr/>
        </p:nvSpPr>
        <p:spPr>
          <a:xfrm>
            <a:off x="7391520" y="6034320"/>
            <a:ext cx="157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жба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2857680" y="4071960"/>
            <a:ext cx="3141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47680" y="329760"/>
            <a:ext cx="7810560" cy="5094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обичајени методи дијагнозе дијабетеса базирани су на различитим хемијским тестовима за одређивање концентрације глукозе и инсулина у крви и ур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ff"/>
                </a:solidFill>
                <a:latin typeface="Arial"/>
              </a:rPr>
              <a:t>Функционални тестови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ликемија нашт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и</a:t>
            </a:r>
            <a:r>
              <a:rPr b="1" i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рално оптерећење глукозом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(тест толеранције глукозе,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GTT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4206960" y="3772080"/>
            <a:ext cx="46591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03280" y="466560"/>
            <a:ext cx="3656160" cy="8589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Начин извође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90200" y="1585800"/>
            <a:ext cx="7629480" cy="452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ликемија наште-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соби се вади крв ујутру на празан стомак (последњи оброк претходног дана не сме бити после 19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),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иво глукозе у крви наште ујутру физиолошки треба да износи 4.4 до 5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mol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док се, у пракси као горња граница сматра 6.1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mol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иво глукозе наште изнад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mmol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(у два независна налаза) указује на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iabetes mellitus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еке друге варијанте дијабетеса (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хипофизн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или адренал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55200" y="953640"/>
            <a:ext cx="7689960" cy="5216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кон одређивања гликемије и инсулинемије наште, изводи се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ест оралног оптерећења глукозом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OGTT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соба попије 7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глукозе растворене у 2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воде, а капиларна крв се узима на 0, 30, 60, 90 и 120 мин (у наведеном времену особа не сме да уноси храну нити да шет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 основу налаза гликемија у датим временима конструише се крива толеранције глукоз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ко је почетна вредност мања од 7.0, врх мањи од 9.0, а вредност после 120 минута мања од 8.0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mol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крива гликемије је нормал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65200" y="490680"/>
            <a:ext cx="7856640" cy="6116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ијабетесна крива постоји ако су вредности веће од 7.0-11.0-11.0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mol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лази између ове две криве указују на смањену толеранцију на глукоз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919080" y="2305080"/>
            <a:ext cx="5715000" cy="36846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664920" y="6080040"/>
            <a:ext cx="76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рива толеранције глукозе код здравих особа и особа са дијабетес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6880" y="851040"/>
            <a:ext cx="7877160" cy="515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акон уношењ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лукозе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у организам здравих особа долази до пораста нивоа шећера у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рв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у физиолошким границама (максимум 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mmol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 и пада на почетне вредности у периоду од 2 с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од дијабетича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па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долази до преласка ове границе и појаве виших вредности, тако да је тест толеранције глукозе абнормалан. Осим тога, потребно је често 4-6 сати да би гликемија поново пала на основну вредно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30080" y="850680"/>
            <a:ext cx="7840800" cy="5335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стовремено се одређује и ниво инсулина у крви (</a:t>
            </a:r>
            <a:r>
              <a:rPr b="0" i="1" lang="sr-CS" sz="2400" spc="-1" strike="noStrike">
                <a:solidFill>
                  <a:srgbClr val="ffffff"/>
                </a:solidFill>
                <a:latin typeface="Arial"/>
              </a:rPr>
              <a:t>инсулинемиј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изиолошке вредности концентрације инсулина наште: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5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20 mU/m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д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ДИЈАБЕТЕСА ТИП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нивои инсулина у плазми су веома ниски или се не могу детектовати у фази гладовања, а чак и после об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д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ДИЈАБЕТЕСА ТИП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ниво инсулина у плазми може бити неколико пута виши од нормалног и обично наставља да се повећава током теста оптерећења глукозом (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GTT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4960" y="969840"/>
            <a:ext cx="8035920" cy="5019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ијагноза дијебетеса се може поставити уколико постоје клинички знаци и ако је гликемија наште већа од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8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mol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ијабетес постоји ако су све три основне вредности гликемије веће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7.0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1.0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1.0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mol/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мањена толеранција на глукозу постоји уколико се налази гликемија крећу испод налаза за дијабетес а изнад нормалних вред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30080" y="969840"/>
            <a:ext cx="7226640" cy="452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Глукоза у урину -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 одређивање глукозе која се излучи урин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рин се узима на почетку и на крају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GTT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драва особа губи немерљиве количине глукозе урином (налаз негативан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зитиван резултат глукозе у урину је углавном повезан с повећаним вредностима овог параметра у крви (изнад 10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mol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), што се најчешће дeшавa код дијабетичaр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06240" y="556920"/>
            <a:ext cx="8321400" cy="6040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начајна метода у праћењу регулације дијабетеса је одређивање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ликозираног хемоглобин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A1c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ако гликозирани хемоглоби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A1c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настаје код свих људи, што је већа концентрација глукозе у крви, већа је и вреднос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A1c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редност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A1c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значавају просечну регулацију гликемије у одређеном врeмeнском период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дносно означава просечну концентрацију глукозе у крви током пoследња три месецa.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реднос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A1c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код нормогликемичних особа 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4-5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реднос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A1c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код особа које болују од дијабетеса је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5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епорука је да се вредност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A1c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изражавају у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바탕"/>
              </a:rPr>
              <a:t>mmol/mol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Gulim"/>
              </a:rPr>
              <a:t>mmol HbA1c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Gulim"/>
              </a:rPr>
              <a:t> mol-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укупног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Gulim"/>
              </a:rPr>
              <a:t> Hb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– за који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ије везана глукоза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Gulim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31920" y="1390680"/>
          <a:ext cx="6326280" cy="5151240"/>
        </p:xfrm>
        <a:graphic>
          <a:graphicData uri="http://schemas.openxmlformats.org/drawingml/2006/table">
            <a:tbl>
              <a:tblPr/>
              <a:tblGrid>
                <a:gridCol w="3146400"/>
                <a:gridCol w="317988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HbA</a:t>
                      </a:r>
                      <a:r>
                        <a:rPr b="1" lang="it-IT" sz="20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c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 (DCCT/NGSP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HbA</a:t>
                      </a:r>
                      <a:r>
                        <a:rPr b="1" lang="it-IT" sz="20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c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 (IFC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mmol/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mol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6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8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9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440" y="45540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натомски положај главних ендокриних жлез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542960" y="1795320"/>
            <a:ext cx="63262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rcRect l="0" t="1399" r="5143" b="0"/>
          <a:stretch/>
        </p:blipFill>
        <p:spPr>
          <a:xfrm>
            <a:off x="0" y="552600"/>
            <a:ext cx="9144000" cy="59166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6"/>
          <p:cNvSpPr/>
          <p:nvPr/>
        </p:nvSpPr>
        <p:spPr>
          <a:xfrm>
            <a:off x="0" y="638280"/>
            <a:ext cx="914400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ивои глукозе у дијабетесу и осталим врстама хипергликем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9560" y="6807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абораторијски тестови за испитивање функције штитасте жлез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2511360" y="2502000"/>
            <a:ext cx="40546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99800" y="1060560"/>
            <a:ext cx="8783640" cy="5170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обичајени дијагностички тестов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(RIA)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за испитивање функције штитасте жлезде подразумевају одређивање концентрациј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лободно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тирокси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ијодтиронина T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SH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– тиреостимулирајућег хорм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BG –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ироксин везујућег глобул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H- тиреотрoпин рилизинг хормо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24040" y="982800"/>
            <a:ext cx="4944960" cy="714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ферентне вред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74560" y="2107800"/>
            <a:ext cx="5460840" cy="39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4.....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50-150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nmol/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3........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9-28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nmol/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SH........20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IU/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BG........0.3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ol/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66480" y="534600"/>
            <a:ext cx="8226360" cy="722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ремећаји штитасте жлез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1880" y="1638360"/>
            <a:ext cx="7790040" cy="4749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имарна хипотиреоз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ести саме жлезд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4 и Т3 сниже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SH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повише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BG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може бити сниже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екундарна хипотиреоз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ести хипофиз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4 и Т3 сниже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SH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ниже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BG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може бити сниже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037880" y="736200"/>
            <a:ext cx="7862760" cy="5676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ерцијарна хипотиреоз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болести хипоталам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4 и Т3 сниже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SH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ниже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RH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ниже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Хипе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ир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еоз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хиперфункција штитасте жлез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4 и Т3 изразито повише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SH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нижен скоро до нул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S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иреостимулишући имуноглобулин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: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вишени код аутоимунске хипертиреоз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нижени код аденома тиреоиде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лаб одговор н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R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9680" y="618840"/>
            <a:ext cx="82263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абораторијски тестов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 рану дијагнозу трудноћ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4713120" y="3849840"/>
            <a:ext cx="4059360" cy="2739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2"/>
          <a:stretch/>
        </p:blipFill>
        <p:spPr>
          <a:xfrm>
            <a:off x="474840" y="1954080"/>
            <a:ext cx="390492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0400" y="326520"/>
            <a:ext cx="8226360" cy="452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Трудноћа започиње оплођењем овума (бластоциста) и његовим транспортом у утерус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Бластоцисту у утерусу окружују ћелије цитотрофобласта (унутрашњи слој) и ћелије синцициотрофобласта (спољашњи слој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7-8 дана после оплођења бластоциста се имплантира (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укопав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) у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најчешћ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задњи зид ендометријум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Ћелије цитотрофобласта бујају и заједно са ћелијам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ендометријума мајке формирају плаценту и мембране (фетоплацентна ендокрина јединица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0" y="4013280"/>
            <a:ext cx="3763800" cy="28447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4000680" y="4052880"/>
            <a:ext cx="3430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Синцициотрофобласт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Цитотрофобласт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Епибласт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Хипобласт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Бластоцел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апилари мајке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мнионска шупљи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5400" y="820440"/>
            <a:ext cx="8226360" cy="5305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амо 4 дана после оплођењ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ћелије цитотрофобласта започињу секрециј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уманог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хориогонадотропног хормона</a:t>
            </a:r>
            <a:r>
              <a:rPr b="0" i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hCG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 (human chorionic gonadotroph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hCG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је гликопротеин који стимулише секрецију естрогена и прогестерона из корпуса лутеума, а то одржава фето-плацентарну јединиц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вај хормон се налази у крви и у свим телесним течностима жене. После оплодње најпре се може утврдити повишени ниво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hCG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у крви, а послe нeколико дана и у мoкраћи;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Детекција 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Arial"/>
              </a:rPr>
              <a:t>hCG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 у урину и крви је основа већине тестова за рано откривање трудноћ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5400" y="774360"/>
            <a:ext cx="8226360" cy="535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ајвећи број тестова за трудноћу базиран је на утврђивању постојања овог хормона у урин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Узимање узорка мокраће много је лакше и комфорније, него узимање узорка крви из вен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Тестови су углавном базирани на реакцији између hCG и антитела против овога хормон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нтитела се налазе на плочици где се апликује кап мокраће. Промена боје реагенса је потврда да се ова реакција заиста одиграла, односно да је жена труд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узданост реакције је око 97%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(зависно од тога када се тест уради).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6360" y="333000"/>
            <a:ext cx="631692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докрини сист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4240" y="167652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ма улогу у регистровању промена унутрашње и спољашње средине орган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безбеђује конкретну активност организма ка неопходним прилагођавањима у циљу адекватне адапт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ндокрине жлезде или специјализоване ћелије ослобађају у циркулацију хемијске гласнике-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хормон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који модификују активност циљних ћелија, ткива и органа (имају кључну улогу у регулацији скоро свих функција организм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55480" y="1611360"/>
            <a:ext cx="7871040" cy="4929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диоизотопске мет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ечна хроматографија под високим притиск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HPL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асна хроматографија са спектрофотохемијском анализ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* * *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процени стања ендокриног система се квалитативно и квантитативно одређују рецептори и испитује ланац интрацелуларне сигнализације за сваки хормон конкретн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817560" y="455760"/>
            <a:ext cx="7313040" cy="94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вантитативно испитивање актив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хормо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6000" y="692280"/>
            <a:ext cx="8564760" cy="55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Радиоизотопске методе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луже за прецизно мерење хормона (веома мала количина хормона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бухватају припрему хормона у радиоактивној форми уз коришћење протеина са великим афинитетом према њем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ристе се више врста протеин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 Ако се користе антите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диоимунолошка     метода (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radioimmunoassay, RI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sr-CS" sz="2400" spc="-1" strike="noStrike">
                <a:solidFill>
                  <a:srgbClr val="ffffff"/>
                </a:solidFill>
                <a:latin typeface="Arial"/>
              </a:rPr>
              <a:t>Пример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: антитела на инсулин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лободн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Т</a:t>
            </a:r>
            <a:r>
              <a:rPr b="0" lang="sr-C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59040" y="325080"/>
            <a:ext cx="6316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ринцип радиоимунолошк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     метод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 (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radioimmunoassay, RIA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0440" y="164628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нтитела против пептидних хормона човека се припремају имунизацијом животиња (кунића, заморчића, овац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али молекули хормона (хормон функционише као хаптен) могу постати антигени спајањем са већим протеинима (обично албумином, тиреоглобулиним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сле инкубације хормона и антитела, одваја се слободна од везане фракције хорм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одавањем радиоактивно обележеног хормона мери се пропорција слободног хормона везаног за анти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2240" y="1211400"/>
            <a:ext cx="7299360" cy="452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ракције се могу одвојити на више начина: апсорпцијом слободног хормона на угаљ везан за декстран или преципитацијом са алуминијум сулфа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 мерење се користе бројачи бета или гама честиц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еопходни су носачи велике специфичне активности, оптимална концентрација антитела и антисерум који се разблажу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59960" y="1344600"/>
            <a:ext cx="7766280" cy="452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2. Ако се уместо антитела користе природни протеини, реч је о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компетитивно везујућој мето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иродни глобулин за мерење концентрације тирокс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3. Радиоизотопска метода у којој се користе ензими се назив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радиоензимска метода (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Arial"/>
              </a:rPr>
              <a:t>REA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ff"/>
                </a:solidFill>
                <a:latin typeface="Arial"/>
              </a:rPr>
              <a:t>Пример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дређивање концентрације катехоламина у плазми и ткив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83720" y="483840"/>
            <a:ext cx="6751800" cy="1306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Лабораторијски тестови за одређивање концентрације глукозе у кр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865080" y="2135160"/>
            <a:ext cx="66880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0:17:57Z</dcterms:created>
  <dc:creator>Zivkovic Dusan</dc:creator>
  <dc:description/>
  <dc:language>en-US</dc:language>
  <cp:lastModifiedBy>User</cp:lastModifiedBy>
  <dcterms:modified xsi:type="dcterms:W3CDTF">2014-10-01T14:47:18Z</dcterms:modified>
  <cp:revision>53</cp:revision>
  <dc:subject/>
  <dc:title>Slide 1</dc:title>
</cp:coreProperties>
</file>